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43E8-D3F8-47E8-82F6-E30038D8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2481-1442-44FF-A638-EF7DB769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F57B-E797-49D0-9CAB-241E8170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CEE-B1CF-4D34-87DC-CB1AFDD5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C83-AF7D-4CE1-9D00-C1808149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BED-4C6B-4A53-9649-2D9CCD12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4FE-AD24-4C06-A322-929104F8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9E41-8F3A-409B-A12B-23EA7C95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603D-FEE1-4E99-A5D7-2CC8A426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7CBE-CE1E-4B2E-B967-C3F68E8C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39A1-27FE-462B-9AFF-5366E682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EC45-B870-436B-8225-E8FCB74B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3A6A-A943-45E0-B1E2-331458996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71640" y="719280"/>
            <a:ext cx="69134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Mint szarvas hűs vízforrásr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Úgy szomjazik lelkem Rá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Vágyódom az élő Isten utá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Hogy mehessek Hozzá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Miért csüggedsz el én lelk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Hisz pajzsod Ő és támasz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Bízz az Úrban, mert karja megszabadí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S hálával áldoz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7:35:01Z</dcterms:created>
  <dc:creator>Balázs</dc:creator>
  <dc:description/>
  <dc:language>en-US</dc:language>
  <cp:lastModifiedBy>Balázs</cp:lastModifiedBy>
  <dcterms:modified xsi:type="dcterms:W3CDTF">2008-01-25T10:25:10Z</dcterms:modified>
  <cp:revision>2</cp:revision>
  <dc:subject/>
  <dc:title>1. dia</dc:title>
</cp:coreProperties>
</file>